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423B954-744A-442B-A448-8082817D88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1896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1896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0640" y="41896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7480" y="18288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1896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7480" y="41896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17760" y="41896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14360" y="53964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896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0640" y="41896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896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30560" y="530280"/>
            <a:ext cx="497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bdad"/>
                </a:solidFill>
                <a:latin typeface="Times New Roman"/>
                <a:ea typeface="DejaVu Sans"/>
              </a:rPr>
              <a:t>CE Workgroup Linux Foundation / Embedded Linux Conference Europ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348240" y="189000"/>
            <a:ext cx="26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  <a:ea typeface="DejaVu Sans"/>
              </a:rPr>
              <a:t>Technical Show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557360"/>
            <a:ext cx="9144000" cy="1440"/>
          </a:xfrm>
          <a:prstGeom prst="line">
            <a:avLst/>
          </a:prstGeom>
          <a:ln w="38160">
            <a:solidFill>
              <a:srgbClr val="00a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716360" y="1557360"/>
            <a:ext cx="1800" cy="5300640"/>
          </a:xfrm>
          <a:prstGeom prst="line">
            <a:avLst/>
          </a:prstGeom>
          <a:ln w="9360">
            <a:solidFill>
              <a:srgbClr val="00a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17360" y="1539720"/>
            <a:ext cx="174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Times New Roman"/>
                <a:ea typeface="DejaVu Sans"/>
              </a:rPr>
              <a:t>What is demonst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747320" y="155736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Times New Roman"/>
                <a:ea typeface="DejaVu Sans"/>
              </a:rPr>
              <a:t>What was 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851360" y="5770440"/>
            <a:ext cx="413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Times New Roman"/>
                <a:ea typeface="DejaVu Sans"/>
              </a:rPr>
              <a:t>Source code or detail technical information avail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2560" y="5788080"/>
            <a:ext cx="178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Times New Roman"/>
                <a:ea typeface="DejaVu Sans"/>
              </a:rPr>
              <a:t>Hardwar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549360"/>
            <a:ext cx="91440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0" y="0"/>
          <a:ext cx="758880" cy="75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75888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21160" y="690480"/>
            <a:ext cx="381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  <a:ea typeface="DejaVu Sans"/>
              </a:rPr>
              <a:t>Demonstration 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7400" y="112536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resenter Nam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84800" y="69048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  <a:ea typeface="DejaVu Sans"/>
              </a:rPr>
              <a:t>Quick Boot Up Ma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1080" y="1125360"/>
            <a:ext cx="38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Thomas Brown / Brown Co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01920" y="6004080"/>
            <a:ext cx="32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The patch was sent to LKML in Sep. 20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48200" y="1987560"/>
            <a:ext cx="3181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It eliminates the unnecessary process f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during boot up time….. See the 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code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8000" y="1971720"/>
            <a:ext cx="27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Surprisingly quick cold boot up…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240" y="6006960"/>
            <a:ext cx="259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ower PC 4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32MB NAND Flash Memory …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19800" y="2924280"/>
            <a:ext cx="23907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DejaVu Sans"/>
              </a:rPr>
              <a:t>main (argc,argv)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DejaVu Sans"/>
              </a:rPr>
              <a:t>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DejaVu Sans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DejaVu Sans"/>
              </a:rPr>
              <a:t>/* Here is an example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ess_a (_INTQUICK, 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ess_foo 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DejaVu Sans"/>
              </a:rPr>
              <a:t>kill_kernel (IMMEDIAT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99ff"/>
                </a:solidFill>
                <a:latin typeface="Courier New"/>
                <a:ea typeface="DejaVu Sans"/>
              </a:rPr>
              <a:t>/* It is bad way 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99ff"/>
                </a:solidFill>
                <a:latin typeface="Courier New"/>
                <a:ea typeface="DejaVu Sans"/>
              </a:rPr>
              <a:t>    </a:t>
            </a:r>
            <a:r>
              <a:rPr b="0" lang="en-GB" sz="1000" spc="-1" strike="noStrike">
                <a:solidFill>
                  <a:srgbClr val="0099ff"/>
                </a:solidFill>
                <a:latin typeface="Courier New"/>
                <a:ea typeface="DejaVu Sans"/>
              </a:rPr>
              <a:t>kill_kernel (AFT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99ff"/>
                </a:solidFill>
                <a:latin typeface="Courier New"/>
                <a:ea typeface="DejaVu Sans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DejaVu Sans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0920" y="3068640"/>
            <a:ext cx="5329440" cy="165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 Black"/>
                <a:ea typeface="DejaVu Sans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toru Ueda</dc:creator>
  <dc:description/>
  <dc:language>en-US</dc:language>
  <cp:lastModifiedBy>Tim Bird</cp:lastModifiedBy>
  <dcterms:modified xsi:type="dcterms:W3CDTF">2011-10-04T22:22:27Z</dcterms:modified>
  <cp:revision>1</cp:revision>
  <dc:subject/>
  <dc:title>スライド 1</dc:title>
</cp:coreProperties>
</file>